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6.xml"/><Relationship Id="rId4" Type="http://schemas.openxmlformats.org/officeDocument/2006/relationships/slide" Target="slide13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7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2.xml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2.xml"/><Relationship Id="rId11" Type="http://schemas.openxmlformats.org/officeDocument/2006/relationships/slide" Target="slide7.xml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7.xm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7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pitting Up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90280" y="549360"/>
            <a:ext cx="12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pitting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 Up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endCxn id="101" idx="1"/>
          </p:cNvCxnSpPr>
          <p:nvPr/>
        </p:nvCxnSpPr>
        <p:spPr>
          <a:xfrm flipV="1">
            <a:off x="3313080" y="2729520"/>
            <a:ext cx="2699280" cy="1352160"/>
          </a:xfrm>
          <a:prstGeom prst="bentConnector3">
            <a:avLst>
              <a:gd name="adj1" fmla="val 45618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endCxn id="103" idx="1"/>
          </p:cNvCxnSpPr>
          <p:nvPr/>
        </p:nvCxnSpPr>
        <p:spPr>
          <a:xfrm flipV="1">
            <a:off x="3313080" y="4080600"/>
            <a:ext cx="2699280" cy="720"/>
          </a:xfrm>
          <a:prstGeom prst="bentConnector3">
            <a:avLst>
              <a:gd name="adj1" fmla="val 45618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us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98" idx="3"/>
            <a:endCxn id="104" idx="1"/>
          </p:cNvCxnSpPr>
          <p:nvPr/>
        </p:nvCxnSpPr>
        <p:spPr>
          <a:xfrm>
            <a:off x="3313080" y="4082040"/>
            <a:ext cx="2699280" cy="13482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Regurgitie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rbre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rekte Beeinfluss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 Brechzentru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7" idx="3"/>
            <a:endCxn id="159" idx="1"/>
          </p:cNvCxnSpPr>
          <p:nvPr/>
        </p:nvCxnSpPr>
        <p:spPr>
          <a:xfrm flipV="1">
            <a:off x="3313080" y="2731680"/>
            <a:ext cx="2689920" cy="13500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0" name=""/>
          <p:cNvCxnSpPr>
            <a:stCxn id="157" idx="3"/>
            <a:endCxn id="161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timulation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Vestibulärappara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57" idx="3"/>
            <a:endCxn id="162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61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intrakraniel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Druck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89720" y="549360"/>
            <a:ext cx="69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pitting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Up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rbrech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extra-gastrointestinale Ursach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direk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Beeinflussung des Brechzentru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12000" y="216864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zünd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N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3440" y="6396840"/>
            <a:ext cx="29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NS = zentrales Nervensyst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ntrakraniel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ruck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89720" y="549360"/>
            <a:ext cx="69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pitting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 Up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rbrech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xtra-gastrointestinale Ursach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irek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eeinflussung des Brechzentrum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intrakranieller Druck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7" idx="3"/>
            <a:endCxn id="17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raumfordernder 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ehirnöde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ydrocephalus, …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imulation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Vestibulärappara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86040" y="549360"/>
            <a:ext cx="78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pitting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 Up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rbrech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xtra-gastrointestinale Ursach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irek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eeinflussung des Brechzentrum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Stimulation des Vestibulärappara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2" idx="3"/>
            <a:endCxn id="17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Reisekrankhei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Otitis media, …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gurgitie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48960" y="549360"/>
            <a:ext cx="292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pitting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 Up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Regurgitie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Obstr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uskelschwä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7" idx="3"/>
            <a:endCxn id="17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82" name=""/>
          <p:cNvCxnSpPr>
            <a:stCxn id="177" idx="3"/>
            <a:endCxn id="18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str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47160" y="549360"/>
            <a:ext cx="44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pitting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 Up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Regurgitier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Obstr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4" idx="3"/>
            <a:endCxn id="18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Ösophagusstriktur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remdkörper im Ösophag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umor im Ösophag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efäßanomal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uskelschwä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48600" y="549360"/>
            <a:ext cx="50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pitting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 Up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Regurgitier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Muskelschwä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9" idx="3"/>
            <a:endCxn id="19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Megaösophag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idiopathisch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ei Myasthenia grav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ei Hypo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ei Hypothyreose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Ösophagiti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55260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5480" y="549360"/>
            <a:ext cx="22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pitting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 Up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us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Ursache 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Respirations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ompression dur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änderun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ßerhalb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spirationstrakt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9" idx="3"/>
            <a:endCxn id="19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00" name=""/>
          <p:cNvCxnSpPr>
            <a:stCxn id="199" idx="3"/>
            <a:endCxn id="19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us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rsache im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spirations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er obe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tem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er unte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tem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2" idx="3"/>
            <a:endCxn id="20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06" name=""/>
          <p:cNvCxnSpPr>
            <a:stCxn id="202" idx="3"/>
            <a:endCxn id="20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1037520" y="549360"/>
            <a:ext cx="54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pitting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Up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ust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Ursache im Respirations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r obe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tem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89560" y="549360"/>
            <a:ext cx="720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pitting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 Up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usten &gt; Ursache im Respirationstrakt &gt; der obe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Atem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9" idx="3"/>
            <a:endCxn id="21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rachealkollap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rache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aryngitis/Pharyng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remdkörpe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umo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r unte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tem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6280" y="549360"/>
            <a:ext cx="73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Spitting Up &gt;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usten &gt; Ursache im Respirationstrakt &gt; der unte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Atem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4" idx="3"/>
            <a:endCxn id="21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neumon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ungenwürme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ronch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elines Asthm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ungenödem (kardi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nd nicht-kardiogen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ungenmetastas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imärer Lungen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neumonitis dur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erzwürme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rbre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astrointestin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xtra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astrointestin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7" idx="3"/>
            <a:endCxn id="10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1" name=""/>
          <p:cNvCxnSpPr>
            <a:stCxn id="107" idx="3"/>
            <a:endCxn id="10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928800" y="549360"/>
            <a:ext cx="26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pitting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 Up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Erbre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ompression dur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änderun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ßerhalb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spirationstrakt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4480" y="54936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Spitting Up &gt;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usten &gt; Kompression durch Veränderungen außerhalb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Respirationstrakt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9" idx="3"/>
            <a:endCxn id="22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2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vergrößerte intrathorak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ymphknot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vergrößertes link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rtriu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horaxergus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umo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strointestin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assagehindern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4" idx="3"/>
            <a:endCxn id="11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8" name=""/>
          <p:cNvCxnSpPr>
            <a:stCxn id="114" idx="3"/>
            <a:endCxn id="11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1038600" y="549360"/>
            <a:ext cx="54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pitting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Up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rbrech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gastrointestinale 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ssagehindern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3"/>
            <a:endCxn id="123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timula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ehnungs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im GIT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4" action="ppaction://hlinksldjump"/>
              </a:rPr>
              <a:t>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10240" y="549360"/>
            <a:ext cx="75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pitting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Up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rbrech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gastrointestinale Ursach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Passagehindern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5960" y="63968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GIT = Gastrointestinaltrak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imula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hnungs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 GI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09880" y="549360"/>
            <a:ext cx="77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pitting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 Up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rbrech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astrointestinale Ursach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assagehinderni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Stimulation der Dehnungsrezeptoren im GIT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  <a:ea typeface="Arial"/>
              </a:rPr>
              <a:t>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7" idx="3"/>
            <a:endCxn id="13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remdkörpe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Magendrehung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le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Obstipa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Magenüberladung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960" y="63968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GIT = Gastrointestinaltrak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35720" y="549360"/>
            <a:ext cx="70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pitting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 Up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rbrech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astrointestinale Ursach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3" idx="3"/>
            <a:endCxn id="13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er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striti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tra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strointestin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8" idx="3"/>
            <a:endCxn id="140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1" name=""/>
          <p:cNvCxnSpPr>
            <a:stCxn id="138" idx="3"/>
            <a:endCxn id="142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irekte Beeinfluss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es Brechzentru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8" idx="3"/>
            <a:endCxn id="143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imula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Chemorezeptor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Triggerzo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viszeral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 Schmerz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58040" y="549360"/>
            <a:ext cx="60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pitting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 Up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Erbrech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extra-gastrointestinale 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viszerale Schmerz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58040" y="549360"/>
            <a:ext cx="72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pitting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 Up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rbrech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xtra-gastrointestinale Ursach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viszer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Schmerz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7" idx="3"/>
            <a:endCxn id="15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ankreat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eriton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Cholangiohepat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Milzdrehung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odendrehung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imula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emorezeptor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iggerzo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55880" y="549360"/>
            <a:ext cx="75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pitting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 Up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rbrech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xtra-gastrointestinale Ursach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Stimu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der Chemorezeptor-Triggerzo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52" idx="3"/>
            <a:endCxn id="15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ierenversag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berversagen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iabetische Ketoazid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yperthyre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akterielle Toxine, …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9T13:15:47Z</dcterms:modified>
  <cp:revision>330</cp:revision>
  <dc:subject/>
  <dc:title>Vorstellung einer Neuheit</dc:title>
</cp:coreProperties>
</file>